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9144-FA49-45D2-A56E-0B87043EE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52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52280" y="96840"/>
            <a:ext cx="8839440" cy="5946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76520" y="121932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ends, Fri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68580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3794"/>
                </a:moveTo>
                <a:lnTo>
                  <a:pt x="22606" y="10800"/>
                </a:lnTo>
                <a:lnTo>
                  <a:pt x="8593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676520" y="1219320"/>
            <a:ext cx="586728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ends, friends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o w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29720" y="1143000"/>
            <a:ext cx="25765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se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insle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king 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76520" y="1219320"/>
            <a:ext cx="586728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ends, friends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o w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29720" y="1143000"/>
            <a:ext cx="25765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se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Jam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king 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676520" y="1219320"/>
            <a:ext cx="586728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ends, friends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o w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720" y="1143000"/>
            <a:ext cx="25765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se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king 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676520" y="1219320"/>
            <a:ext cx="586728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ends, friends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o w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29720" y="1143000"/>
            <a:ext cx="25765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se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ery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king 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676520" y="1219320"/>
            <a:ext cx="5867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76520" y="1219320"/>
            <a:ext cx="5867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76520" y="1219320"/>
            <a:ext cx="586728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ends, friends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o w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720" y="1143000"/>
            <a:ext cx="25765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se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king 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76520" y="1219320"/>
            <a:ext cx="586728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ends, friends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o w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720" y="1143000"/>
            <a:ext cx="25765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se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Kas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king 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676520" y="1219320"/>
            <a:ext cx="586728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ends, friends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o w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720" y="1143000"/>
            <a:ext cx="25765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se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ik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king 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76520" y="1219320"/>
            <a:ext cx="586728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ends, friends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o w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29720" y="1143000"/>
            <a:ext cx="25765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se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Just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king 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5:44:59Z</dcterms:created>
  <dc:creator>davisd</dc:creator>
  <dc:description/>
  <dc:language>en-US</dc:language>
  <cp:lastModifiedBy>fdlrs1</cp:lastModifiedBy>
  <dcterms:modified xsi:type="dcterms:W3CDTF">2008-08-07T15:05:14Z</dcterms:modified>
  <cp:revision>41</cp:revision>
  <dc:subject/>
  <dc:title>Slide 1</dc:title>
</cp:coreProperties>
</file>